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gif" ContentType="image/gif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9F33-C339-4BCF-B6D2-3AF9BE3A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C951-E20F-4265-9BE5-BFD2DFA8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DA70-6EA3-4155-8550-8D378007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8981-335E-4FEF-BBB3-AEF5247C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C70B-0D59-4BBE-8EEE-24F68160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88D1-DC39-46DD-BFD7-E59C1E46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DA82-064C-4570-9869-D8A5D63A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8558-BE13-4E01-B664-AC48C951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E0B3-9FD6-4F51-9557-09BE92A3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6D11-13BF-4C6F-98E3-32474662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7BC0-58C2-4B0D-9FBB-2D6FDC2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38BC-BF9F-4937-9A25-456A0B0A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8210-C650-4518-BC3F-FD026D75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68A1-95B3-4E4C-A027-E14BD53B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623F-E441-4237-ACA6-B848FB39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6FBF-3AA1-4A02-8C68-F61326CD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4C26-FB01-4B3D-B053-51FA6395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FDE8-A369-428F-860D-A3D04F03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72A3-F6D5-4E6B-B0B0-B54A7F1B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E600-F9F9-4CFD-BCE9-3EE04CDA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6421-0FDD-4DF3-A855-7E94D322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E7C5-51C9-4CF4-8D29-F5059488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E2C0-BE99-4316-A8FC-C432A2D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8CAB-5FC8-4086-B256-BD5463A6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1FE2-02C2-4DDF-9A2D-60EE97FCFE65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6166-FCFE-4265-B065-53F739D49CC2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dfdef6"/>
                </a:solidFill>
                <a:latin typeface="Arial"/>
              </a:rPr>
              <a:t>Trauma kod že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f dr A.Živan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AK KC Kragujev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rčana frekvenca se povećava tokom trudnoće i dostiže tokom trećeg trimenstra povećanje od 10 do 15 otkucaja u min u odnosu na bazalnu linij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rterijski krvni pritisak se smanjuje za 5 do 15 mmHg tokom drugog trimestra sa povratkom na normanlne vrednosti u terminu porođa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irkulatorni volumen se povećava za 40 do 50%, uglavnom povećanjem volumena plazme što dovodi do hemodilucije i „fiziološke anemije“ u trudnoći. Hematokrit u trećem trimestru je normalno 0,30 do 0,3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ve promene su bitne kako bi se smanjio ukupan gubitak eritrocita tokom krvarenja u porođaj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rčani izlazni volumen krvi se povećava tokom trudnoće, tako da dostiže 20 do 30% veće vrednosti a krajem trećeg trimestra čak 40% veće vrednosti u odosu na stanje pre trudnoć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ko 25% cirkulatornog volumena odlazi za potrebe mater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 trećem trimestru materica mehanički, može pritiskom na venu kavu da redukuje venski input u srce ukoliko se trudnica leži na leđima - sindrom vene c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457200" y="2306520"/>
            <a:ext cx="40384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irkulatorne promene u trudnoći, omogućavaju ženi da se lako adaptira na gubitak krvi od 1000 do 1500ml uz minimalne kliničke znake, dok s druge strane fetus pokazuje jasne znake patn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iziološki vaskularni sistem posteljice je maksimalno dilatiran i ne poseduje značajnu autoregulatornu rezervu. To znači da pad arterijskog krvnog pritiska kod trudnice dovodi do placentalne vazokonstrikcije i smanjenja uteroplacentarnog protoka što ima za posledicu dramatičan pad parcijalnog pritiska kiseonika u fetalnoj cirkulac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mpenzacije hipovolemije kod majke drastično utiče na fetalni dist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ormalni fetalni parametri ukazuju na manji gubitak krvi i na adekvatnu resuscitaciju. S druge strane, hipotenzija trudnice koja nije posledica aortokavalne kompresije, dovodi  u 80% slučajeva do intrauterusne smrti plo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gresivna resuscitacija volumena mora se uspostaviti rano u ovakvim slučajev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erapijska nadoknada cirkulatornog volumena počinje brzom infuzijom kristalnih rastvora i transfuzijom eritrocita. Ovi postupci predstavljaju osnovu u terapiji hemoragijskog šo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trošna koagulopatija može da izazove sekundarni šok i oštećenje tkiv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ivo fibrinogena ispod 100 mg na decilitar ili produženo protrombinsko vreme i APTT je indikacija kod pacijentkinja koje krvare za upotrebu krioprecipitata plaz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rdiniranje opranih trombocita zavisi od koncentracije trombocita. Jedna jedinica transfuzije trombocita podiže broj trombocita od 8.000 do 10.000 na milimetar kubni i treba je uvek primeniti kada je broj trombocita manji od 30.000 na milimetar kub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457200" y="2484360"/>
            <a:ext cx="403848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bzirom da se traumatizovani pacijenti obično transportuju u supinoj poziciji postoji kod trudnica rizik za pojavu sindroma vene cave, posebno u trećem trimestr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Zbog toga se mora obezbediti lako pomeranje materice u stranu, obično na lev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57200" y="23511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Promene na C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rauma kod trudnice može nastati kao posledica eklamptičnog napada a redukovani stepen svesnosti pacijentkinje ne nastaje samo od povrede glave, nego se može javiti i kao deo kliničke slike eklampsi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ophodno što pre uraditi analizu urina na proteine. Konkomitantno prisustvo proteinurije, hipertenzije i perifernog edema olakšava postavljanje dijagno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 postoji specifičan test za dijagnozu eklampsije. Dijagoza se postavlja na osnovu kliničkih znakova i simpto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ophodno je pažljivo ispitivanje abdome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naci peritonealne iritacije mogu biti otežani kod trudnica, zbog istezanja prednjeg trbušnog zida od strane uvećane materice. Određivanje zone bolova i širenja bola u predelu abdomena je od izuzetnog značaja. Pokreti ploda mogu se palpirati kao i prisustvo ili odsustvo materičnih kontrakci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onsultacija akušera je neophodna u ovoj fazi obrade pacijentkinje kako bi se dijagnostikovalo stanje fetusa i eventualne intravaginalne povre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Vaginalno krvarenje se javlja u 70% slučajeva abrupcije placente. Izuzetak su retroplacentarni hematomi. U takvim slučajevima bitno je prepoznati pojačan tonus materice, bol i fetalni dist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brupcija posteljice dešava se kod 2 do 4% slučajeva trauma manjeg intenziteta dok se kod abdominalnih trauma taj broj penje i na 50%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eophodna je auskultacija srčanih tonova ploda što p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 maloj trudnoći koristi se ultrazvučna dijagnostika a kod većih trudnoća, posebno u trećem trimestru metoda izbora je kontinuirana kardiotokografija (CTG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284360" y="1267920"/>
            <a:ext cx="43974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ve trudnice, žrtve traume, kod kojih je dijagnostikovana vitalna trudnoća veća od 24 gestacione nedelje treba podvrgnuti kontinuiranom CTG monitoringu, čak iako nema evidentne povrede abdom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va vrsta ispitivanja ima visoku senzitivnost i specifičnost u otkrivanju početka prevremnog porođaja, abrupcije posteljice i fetalne asfiks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3313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udnoća menja funkcije skoro svih sistema u organizmu že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zmenjene su osnovne fiziološke funkcije i postoji razlika u odgovoru na patološke nokse u odnosu na stanje van trudnoć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osebno je i briga o stanju fetusa važna u strategiji dijagnostičkih i terapijksih proced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nogi principi koji se primenjuju kod kritičnih pacijenata, primenjuju se i kod trudn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auma kod žena u trudnoći je veoma česta (6 do 8%) i najčešći je ne-akušerski uzrok smrti u ovoj grupi pacijen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Feto maternalna hemoragi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etomaternalna hemoragija je pojam koji opisuje gubitak krvi preko uteroplacentarne jedin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d 8 do 30% slučajeva traume trudnica, dolazi do prodora fetalnih eritrocita u krvotok majke. To dovodi do povećanog rizika da se kod Rh negativnih trudnica razvije senzibilizacija na Rh pozitivan fet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e postoji korelacija između težine traume, gestacione starosti trudnoće i veličine fetomaternalne hemoragije u odnosu na stepen senzibilizacije. Čak i mala količina fetalne krvi kao što je 0,1 ml može da dovede senzibilizacije u 70% slučaje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bavezna profilaktička doza anti-D imunoglobulina (Rhogam) u dozi od 300 mikrograma, svim traumatizovanim Rh negativnim trudnicam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ofilaksa se sprovodi unutar 72 sata od momenta nastupanja traume. Jedna doza je dovoljna da neutrališe 30ml fetalne krv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prvih dvanaest nedelja trudnoće materica se nalazi unutar koštanog dela male karlice i relativno je zaštićena od mehaničkih povred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drugog trimestra materica raste i izlazi iz anatomskog prostora male karlice. Debljina materičnog zida, amnionska tečnost i relativno mala veličina fetusa pomažu da se umanje konsekvence direktne trau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trećeg trimestra zid materice se istanjuje  tako da je tada manja zaštita od mehaničkih povreda fetu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57200" y="2214720"/>
            <a:ext cx="403848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aterica kao mišićno vezivni organ u trećem trimenstru ima elasticitet koji se razlikuje od posteljice. To objašnjava veću učestalost abrupcije placente i kod manjih trauma prednjeg trbušnog zida, tako da prilikom mehaničke povrede najčešće dolazi do odlubljivanja placente i posledičnog fetalnog distres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457200" y="225108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obojne povrede u drugom i trećem trimestru mogu izazvati kompleksnu kombinaciju oštećenja organa gastrointenstinalnog trakta koji je tokom trudnoće dislocir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 druge strane materica je krajnje efektivna u zaštiti majke, u smislu veličine zaštitne površine koja se nalazi ispred vitalnih organa kao i zbog povećanog kapaciteta absorpcije energ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ncidenca smrti trudnica je manja. Međutim fetus kod probojnih povreda nije zaštićen. Kod povreda nastalih vatrenim oružjem koje zahvataju matericu maternalni mortalitet je od 7 do 10% a fetalni raste i do 7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Pre hospitalno zbrinjavanje</a:t>
            </a: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Idelano bi primena lokalnog protokola trijaže podrazumevala da se trudnice kao žrtve traume transportuju u ustanovu koja ima sve uslove za zbrinjavanje i trudnice i fetu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ogućnost adekvatnog monitoringa fetusa je krucijalni faktor u odlučivanju tokom kliničkih postupaka. Takođe je važno da prehospitalni tim upozori na vreme centar ili bolnicu da tim ginekologa-akušera bude spreman i dostupan pri prijemu povređene trudn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1047600" y="2700360"/>
            <a:ext cx="28576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fdef6"/>
                </a:solidFill>
                <a:latin typeface="Arial"/>
              </a:rPr>
              <a:t>Kontrola disajnih puteva i vratnog dela kičmenog stuba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dem gornjih disajnih puteva trudnica nastaje kao posledica pojačane kapilarne propustljivosti u kasnijim fazama trudnoće kao i zbog povećanja masnog tkiva na licu i povećanja volumena dojk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mpromitovanje gornjih disajnih puteva zbog inhalacije želudačnog sadržaja je konstatna pretnja, posedno tokom trećeg trimestra kada dolazi do podizanja želuca sa promenom gastroezofagelanog ugla koja dovodi do slabljenja sfinkt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ovećavan rizik od regurgitacije i aspiracije želudačne kiseline tako da je veoma važno obezbediti prolaznost disajnih puteva primenom fiksirajućeg endotrahealnog tubu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Disanje i ventilaci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isustvo gravidne materice, u odmakloj trudnoći, dovodi do promena kao što je smanjenje funkcionalnog rezidualnog kapaciteta (FRC) za 20%, respiratorni pokreti mogu biti smanjeni i za 50% u supinoj poziciji trudnice što može da dovede do smanjenja plućne komplijan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Kao rezultat ovih promena trudnice su u većem riziku za smanjenu saturaciju i hipoksiju u odnosu na negravidne žene. Zbog toga je neohodna nadoknada kiseonika kod svih traumatizovanih trudn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378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Disanje i ventilaci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Zbog redukcije funkcionalnog rezidualnog kapaciteta (FRC) koji je bitan kao rezerva kiseonika tokom apneje kao i zbog povećane potrošnje kiseonika kod trudnica, mora se pažljivo osigurati oksigenacija pre primene hipnotika i neuromuskularnih blokatora tokom endotrahealne intubacij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 se postiže tokom 3 do 6 minutne respiracije 100% koncentracije kiseonika preko maske za disan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457200" y="2324160"/>
            <a:ext cx="40384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08:32:53Z</dcterms:created>
  <dc:creator>Zivanovic</dc:creator>
  <dc:description/>
  <dc:language>en-US</dc:language>
  <cp:lastModifiedBy>Zivanovic</cp:lastModifiedBy>
  <dcterms:modified xsi:type="dcterms:W3CDTF">2011-12-17T22:36:27Z</dcterms:modified>
  <cp:revision>6</cp:revision>
  <dc:subject/>
  <dc:title>Trauma kod žena</dc:title>
</cp:coreProperties>
</file>